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34C1-5C95-4EED-A41B-A39A705EA19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JA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ME NÃO PODERÁ ESTAR EM CONFLITO LEGAL E INTENCIONAL, COM O PNE, PDE, 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NFLITO LEGAL INVIABILIZA O P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AVRAS SOFISTICADAS NÃO FAZEM O MELHOR PLANO, MAS A ADEQUAÇÃO DO QUE SE DESEJA FAZER E A COMPATIBILIDADE COM OS RECURSOS, COM AS POSSÍVEIS FONTES DE PARC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NCA ESQUECENDO DE DISTRIBUIR AS AÇÕES NO TEMPO, COM UM CRONOGRAMA DE EXECU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QUANTIFICAÇÃO DAS METAS É IMPORTANTE, A CURTO, MÉDIO OU LONGO PRAZO, DESTACANDO SE O OBJETIVO DEVE SER ALÇANÇADO TOTAL OU PARCIALMENTE EM TANTO TEMPO PREVIO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E TÉCNICA DA ELABORAÇÃO DE UM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IS DIRET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T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PLANO MUNICIPAL DE EDUCAÇÂO EXIGE UMA CONSTRUÇÃO PARTICIP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OGRAMA DE EXEC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OMPANHAMENTO DA EXECUÇÃO AVALIAÇÃ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AÇÃO FINAL DO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ENDAÇÕES BIBLIOGRÁF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 DE CONTINUIDADE DO PLANO MUNICIPAL DE EDU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XÃO NECESSÁ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AÇÃO E FORMATAÇÃO: CLODOALDO JOSÉ SOUZA, SOCIÓLOGO, CONSUL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 Helena Vargas da Silveira – Pedagoga, Especialista em Edu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LANEJAMENTO É CIENTÍFICO. PERMITE CRIAR ESTRAT[ÉGIAS PARA AGIR SOBRE UMA REALIDADE E APONTA OS CAMINHOS PARA RETORNAR A ELA PARA VERIFICAR SE AQUILO QUE ERA PRETENDIDO, FOI OU NÃO ALCANÇ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UMA REALIMENTAÇÃO DAS AÇÕES  QUE SE INSEREM EM UM CICLO DIRECIONADO PARA ATUAÇÃO SOBRE UMA REAL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NICÍPIO DIAGNOSTICOU QUE NÃO TEM CRECHES SUFICIENTES PARA ATENDIMENTO DA POPULAÇÃO REVELADA NO MINICENSO EDUCA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RÁ INCLUIR A AÇÃO CONSTRUÇÃO DE CRECHES, EM SEU PME, OBSERV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ÇÃO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QU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JAR PARTE DO PRINCÍPIO DE ORGANIZAÇÃO E ESTE PRINCÍPIO LEVA A OUTRO MUITO IMPORTANTE QUE É A SOMA DE ESFORÇOS, A INTEGRAÇÃO DE VÁRIOS ENTES PARA CONSEGUIR SUCESSO NAQUILO QUE FOI PRETENDIDO E PLANEJ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AÇÕES PLANEJADAS EM EDUCAÇÃO NOS MUNICÍPIOS PARTEM DE UMA REALIDADE DIAGNOSTICADA E PRECISAM TER COERÊNCIA  COM A LEGISLAÇÃO E METAS DO pne, pee E, ATUALMENTE , COM AS PROPOSTAS DO P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VA, DIAGBÓSTICO, OBJETIVOS, METAS, ESTRATÉGIAS, RECURSOS,  ACOMPANHAMENTO DAS AÇÕES, , ALCANCE DOS OBJETIVOS, COERTÊNCIA COM OUTROS PLANOS SÃO ELEMENTOS QUE DEVEM SER OBSERVADOS PARA A ELABORAÇÃO DO P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B7A-9E50-4EDB-9806-263BB64F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188-E7F8-4F78-AC7C-D67FE92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C7F-3694-402F-BEBC-0818542A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527-0307-4243-9146-913ED1DE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75D-9A64-4A8E-A12A-7E07744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39E-9711-4A08-B94C-FAABB3D0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818-32FD-4BB1-99AA-25FD3D17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0D1-5CA9-4E2E-AA6D-4194BFD6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559-0316-49EA-9A99-B3A51E5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CE2-BA36-4BAD-AFF3-86B495A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AF8-1D52-4A7B-8273-0554177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38C-346C-43DA-8DE7-725C67A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94C-6506-442B-8971-238098E6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lodoaldosouza@mec.gov.br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4000" y="1341360"/>
            <a:ext cx="4968720" cy="4056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trizes importantes para a construção do PLANO MUNICIPAL DE 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0" y="907920"/>
            <a:ext cx="6318360" cy="486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IDADO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ME NÃO PODERÁ ESTAR EM CONFLITO LEGAL E INTENCIONAL, COM O PNE, PDE, PEE, CONSTITUIÇÃO FEDERAL, LEIS EDUC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CONFLITO LEGAL INVIABILIZA O P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08000" y="476280"/>
            <a:ext cx="6336000" cy="606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 LEMB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VRAS SOFISTICADAS NÃO FAZEM O MELHOR PLANO, MAS SIM A ADEQUAÇÃO DO QUE SE DESEJA FAZER E A COMPATIBILIDADE COM OS RECURSOS, COM AS POSSÍVEIS FONTES DE PARC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NCA ESQUECENDO DE DISTRIBUIR AS AÇÕES NO TEMPO, COM UM CRONOGRAMA DE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QUANTIFICAÇÃO DAS METAS  É  IMPORTANTE, A CURTO, MÉDIO OU LONGO PRAZO, DESTACANDO COMO SE ESPERA O ALCANCE, TOTAL OU PARCIAL, NO TEMPO PREV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58920" y="1700280"/>
            <a:ext cx="741672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NDO DIRETRIZES TÉCNICAS PARA ELABORAÇÃO DO P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692280"/>
            <a:ext cx="6624720" cy="380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ção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ção dos níveis e modalidades de Ensino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demográfico e edu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ve histórico do PME apres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foi construído (envolvi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260280"/>
            <a:ext cx="7632720" cy="41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acar: o atendimento às diretrizes legais da Educação que regem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incípios que nortearam a elaboração d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tendimento às necessidades, aspirações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tendimento de reivindicações da popu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4360" y="404640"/>
            <a:ext cx="7993080" cy="452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mento de citar os resultados de pesquisas, do minicenso, de avaliações anteriores, apontamento das necessidades educacionais na realidade do municí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car as necessidades prioritárias e apontar as raz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lecionar e destacar onde o plano irá inter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692280"/>
            <a:ext cx="7848360" cy="41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RIZES LEG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as diretrizes legais em que o PME encontra legitim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eis federais, estaduais,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corporações e ou alterações  leg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está operacionalizado o sistema de Ensino no município (níveis e modalidades); formação docente, planos de carreira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836640"/>
            <a:ext cx="8496000" cy="340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se deseja fazer para causar impacto positivo na área educacional do município, em atendimento aos resultados do diagnóstico, reivindicações, prioridades de políticas educacionais e interesses da comun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476280"/>
            <a:ext cx="7200720" cy="40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cionar, de forma detalhada , as ações que se pretende fazer para atingir o objetivo geral, indicando como e com que , com quem,  determinando distribuição no tempo  para que possam ser acompanhadas e avaliadas, para realimentação , correção de desvios, troca de estratégias para o alcance, troca de metodologias, de pessoal, ou agregação de mais entes, parceiros, atores, comunidade escolar, busca de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cionar os objetivos por níveis e modalidades de ens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04640"/>
            <a:ext cx="7705800" cy="488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ilo que o município deseja alcançar, de forma quantificada no tempo, a curto, médio ou longo prazo. Especificar no cronograma de metas, em meses, anos, dé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ltar o PNE, PDE, PEE, sempre que haja necessidade de compatibilizar metas estaduais, na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as metas por níveis e modalidades de ens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428760"/>
            <a:ext cx="5327640" cy="570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LANO MUNICIPAL DE EDUCAÇÂO EXIGE UMA CONSTRUÇÃO PARTICIP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 RELAÇÃO COM O DESENVOLVIMENTO EDUCACIONAL DO MUNICÍPIO, REFLETINDO-SE NA POPULAÇÃO ESCOLAR E NA SOCIEDADE, EM G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907920"/>
            <a:ext cx="6769080" cy="396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RONOGRAMA DE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sentação gráfica das metas do PME e a proposta de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e a criatividade e a praticidade para apresentar o cronograma, na redação final do P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nogramas fáceis de acompanhar, de prefer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04640"/>
            <a:ext cx="8136000" cy="540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OS, FINANCEIROS, FÍSICOS, MATER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r os recursos disponíveis e ou aqueles oriundos de parcerias, as fontes de recursos financeiros, convênios, contratos, PPA, FUNDEB, inserção em Programas estaduais, federais, empresariais, rede privada, possibilidades de concursos, contrat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r pessoal disponível para executar o PME: Docentes, Profissionais da Edu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lhos, Associações , sociedade civi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620640"/>
            <a:ext cx="8353440" cy="411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MPANHAMENTO DA EXECUÇÃO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r o PME de forma que os itens planejados possam ser acompanhados em sua execução, com cronogramas de ações, de me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critérios quantitativos para as metas e 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elecer critérios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836640"/>
            <a:ext cx="7704000" cy="405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MPANHAMENTO DA EXECUÇÃO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instrumentos de avaliação, condizentes com o que deseja acompanhar e avali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r períodos para avaliação; não deixar para o final d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ar esclarecimento de dúv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r resultados para os munícipes, estado, M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404640"/>
            <a:ext cx="8136000" cy="504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AÇÃO FINAL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mente, a cargo da Secretaria Municipal de Educação que  dará formato ao PME, organizando a redação final da construção conjunta , democrática e participativa,  proposta para o seu conteú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dação final deverá ser analisada e divulgada (criação de comissão composta de  diferentes atores do município, envolvidos com a construção e desenvolvimento do P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836640"/>
            <a:ext cx="8351640" cy="426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COMENDAÇÕES BIBLIOGRÁFIC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ITUIÇÃO FEDERAL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N.10172/01 P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N.9.394/1996 L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 11.494/2007 FUNDE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NACIONAL DE EDUCAÇÃO; Vital Did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ME - DOCUMENTO NORTEADOR PARA ELABORAÇÃO  DO PME; Souza, Clodo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ER PARA ACONTECER; Monlevade, João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549360"/>
            <a:ext cx="8352000" cy="2348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CLEO DURO  DO P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PROCESSO DE CONTINUIDADE DO PLANO MUNICIPAL DE EDU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XÃO NECESS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2997360"/>
            <a:ext cx="1296720" cy="115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655164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dos nossos maiores problemas é a descontinuidade nas gestões municipais. Toda vez que muda a gestão das prefeituras vem uma avalanche de desconstruções institucionais e programáticas. Uma espécie de eterno recomeço”. (Raimundo Palh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208720" cy="381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BÉNS AMAVI E MUNICÍPIOS PRES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NSTRAM EMPENHO PARA A CONSTRUÇÃO DO PME, ACREDITRANDO QUE SEJA MARCO DE CONTINUIDADE POSITIVA, SEMPRE QUE CONTEMPLE A SUPERAÇÃO DAS NECESSIDADES PARA O DESENVOLVIMENTO, OU QUE APRESENTE INOVAÇÕES EM PROL DESTE, QUER DE ÂMBITO EDUCACIONAL E 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 VITAL DIDONET, QUE A CONTEXTUALIZAÇÃO DA CULTURA É UM DOS PONTOS FORTES PARA O P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24000" y="1700280"/>
            <a:ext cx="4824360" cy="318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odoaldosouza@mec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1) 210485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e@mec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0920" y="2276640"/>
            <a:ext cx="5545440" cy="23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quisa, cr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doaldo José Souza, Sociólogo, Consul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Helena Vargas da Silveira – Pedagoga, Especialista em 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ília, maio de 28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5445000"/>
            <a:ext cx="745164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76360" y="0"/>
            <a:ext cx="766764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956720" y="0"/>
            <a:ext cx="118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476280"/>
            <a:ext cx="6191280" cy="606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LANEJAMENTO É CIENTÍF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PERMITE CRIAR ESTRATÉGIAS PARA AGIR SOBRE UMA REALIDADE E RETORNAR A ELA (em determinado tempo estipulado), PARA VERIFICAR SE AQUILO QUE ERA PRETENDIDO, FOI OU NÃO ALCANÇ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RMITE UMA REVISÃO, REALIMENTAÇÃO DAS AÇÕES  QUE SE INSEREM EM UM CICLO DIRECIONADO PARA ATUAÇÃO SOBRE UMA RE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27280" y="836640"/>
            <a:ext cx="6121440" cy="530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R FAZ ARTE DO PRINCÍPIO DE ORGANIZAÇÃO E ESTE LEVA A OUTROS MUITO IMPORT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MA DE ESFORÇ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TEGRAÇÃO DE VÁRIOS ENTES E ATORES PARA CONSEGUIR SUCESSO NAQUILO QUE FOI PRETENDIDO E PLANEJ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476280"/>
            <a:ext cx="5689440" cy="61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RUÇÃO DO PME ENVOLVE MOMENTOS DIFERENCIADOS E INTERLIG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  DE UMA REALIDADE  EDUCACIONAL DIAGNOSTICADA  E QUE PRECISA SER MODIFICADA, MANTIDA, IMPLEMENTADA  OU CORRIGIDA, EM  COERÊNCIA  COM A LEGISLAÇÃO EDUCACIONAL, METAS DO PNE, PEE, PDE, OBSERVANDO OBJETIVOS, METAS, RECURSOS E O ACOMPANHAMENTO DAS AÇÕE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4360" y="907920"/>
            <a:ext cx="6120000" cy="478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ICÍPIO Z  DIAGNOSTICOU QUE NECESSITA DE CONSTRUIR CRECHES PARA ATENDIMENTO SATISFATÓRIO DA POPULAÇÃO REVELADA NO MINICENSO EDUC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rá incluir no PME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 que fazer, a prát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58920" y="260280"/>
            <a:ext cx="6516720" cy="634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car a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ção de x creches para x crianças, (observando o quantit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er a finalidade, o objetivo de impacto que é o objetivo geral e os objetivos detalhados que são os específicos (para que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r estratégias de parcerias, de recursos ( com quem fazer, com quanto fazer, como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333360"/>
            <a:ext cx="6696000" cy="606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IF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r a ação no tempo, as metas (em que período de tempo, quando fazer, até quando, fazer quant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r coerência com as metas do PNE, PDE, PEE, (estabelecer metas compatíveis com os planos educacionais da federação e do estado)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erência fortalece  de alguma forma, para atingir a m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r como será feito o acompanhamento e avaliação da ação planejada (instrumentos, crité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404640"/>
            <a:ext cx="7488360" cy="615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OS QUE DEVEM ESTAR PRESENTES NA ELABORAÇÃO DO P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ÇÃO, JUSTIFICATIVA, DIAGNÓSTICO, OBJETIVOS, METAS, CRONOGRAMA DE AÇÕES, CRONOGRAMA DE  METAS, RECURSOS,  FORMA DE ACOMPANHAMENTO DAS AÇÕES, AVALIAÇÃ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ÇÃO DE PRINCÍP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ÇÃO, COERÊNCIA, ORGANIZAÇÃO, CRIATIVIDADE, EXECU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4:09:57Z</dcterms:created>
  <dc:creator>Maria Helena </dc:creator>
  <dc:description/>
  <dc:language>en-US</dc:language>
  <cp:lastModifiedBy>Maria Helena </cp:lastModifiedBy>
  <dcterms:modified xsi:type="dcterms:W3CDTF">2008-05-13T22:20:50Z</dcterms:modified>
  <cp:revision>12</cp:revision>
  <dc:subject/>
  <dc:title>Slide 1</dc:title>
</cp:coreProperties>
</file>